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28B7-9408-4048-A67F-E3280C1A9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F974-03FA-490A-97DD-338C5CDBC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AEE5-B0B2-4F48-A48A-3E651462F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3710-DAE0-4CBF-8988-77DB59BB6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4144C-32A0-47C1-9973-24643CD53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D0340-5D9C-4916-92D3-A3D630447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33969-D4F4-4C7B-852A-CD831677A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35BE3-4D1F-4F8B-B716-056389466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94286-4FF8-4654-9BB2-9DEA89FE7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E8CDB-7B12-494F-8E10-8F0A6F1E5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ED44D-B9F9-4ED7-8123-EB1317D5D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9876-C93B-4767-A17F-EC6B89F7F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8B985-2CB4-4C81-B915-28F049386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D953B-A6AF-4DBC-A37A-2DB143D9F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33C66-6FFC-4389-9F30-BE5F1D378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A60AC-5EAE-4536-9F83-118CBDEDD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A1C8B-DC29-402C-9EE8-D676F7BB0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7E39-5BD9-49A0-810C-5D3AF7294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D42F-BFC1-46C7-B78E-67780B3DC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CB6F-2BF1-44C6-B248-8B3DF4075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07F3-B534-4BD1-A684-298753D7C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0314-4BC7-457B-983D-E7423C261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658F-94CA-4AF1-A15E-E0D14113A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EF57-FA03-489B-B264-49035C83A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EEE77-ADD4-4601-B130-995AA3A472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02610-E20E-410D-8183-1C1210771A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8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원과 교원단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복지와 교육의 본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밀그램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예일대학교 심리학자 조교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tanley Milgr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나치의 학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충격 실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5 : 35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필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적 동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집단의 이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부상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신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익보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 향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 이상의 실현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은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공성과 공익성을 띠는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합적 성격을 띤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의단체가 아닌 법정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역할과 기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과 안정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을 대변하고 권익을 보호 증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자질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 경제적 지위 신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정책의 형성과 결정 과정에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복지와 혜택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 복지와 사회의 건전한 발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한국의 교원단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단체총연합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국교직원노동조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교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총연합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단 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논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1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2T05:54:22Z</dcterms:modified>
  <cp:revision>11</cp:revision>
  <dc:subject/>
  <dc:title>제 6장 교사교육 </dc:title>
</cp:coreProperties>
</file>